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300DC-FE26-425D-80A6-D29742175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06F28-5A22-48F6-A2CE-2F82BA2BE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5BC9E-E040-47A1-B118-D38CCFB331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254FF-592B-4E5F-AE6C-5796FC07E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8B42AB-7B8F-494F-B500-966C7F6F3C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E02810-878D-4D19-A4C0-523E34F398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EFA026-FAE6-4285-8E4D-C65EF5322E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0FF710-5F69-41E3-89DC-C4AFA3E9BE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5AF49F8-AA87-422E-8CA3-C9927028F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07C4D7-DBA4-4B5F-BC80-CFD4D0E177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164A2D-92AD-4B45-9A4A-8FBF2553C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03FF-B3BF-4197-A99B-4A8ACAEBA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1C9443-6DAA-489A-9B99-6300962E31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5F773A-0D68-4889-88F8-EB5DE57276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A20520E-F5D8-4DF3-8979-A4442CB59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DBB8602-ADD4-4BEB-B87A-574EDDCC83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545A08D-6937-4449-8683-C78A83BFE2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E9CB-B940-4D28-87AD-6C24DEA9A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B7FCD-434A-454D-948D-9BD2D345D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1D7E968E-BA64-441F-86FF-BFF75FB7C2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FBED61-F27C-42A2-9B50-A64E587CC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B6F7A-6C15-4C01-BCC7-2877FF5D2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D6430-6E44-46F1-A76F-798A7C5F43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532E6-7463-497D-8EA7-18CE771383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9871-0EE2-48DB-AC16-BC4EACBBF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D45E-255C-44BF-9FFA-ABB007FE0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09120" y="167616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PA</a:t>
            </a:r>
            <a:br>
              <a:rPr sz="4000"/>
            </a:br>
            <a:r>
              <a:rPr b="0" lang="en-US" sz="4000" spc="-1" strike="noStrike">
                <a:solidFill>
                  <a:srgbClr val="000000"/>
                </a:solidFill>
                <a:latin typeface="Arial"/>
              </a:rPr>
              <a:t>(Children’s Internet Protection Act)</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You Succee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
        <p:nvSpPr>
          <p:cNvPr id="85"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BAD0-8454-4A93-B012-D9DF5653E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st funding year</a:t>
            </a:r>
            <a:endParaRPr b="0" lang="en-US" sz="4000" spc="-1" strike="noStrike">
              <a:solidFill>
                <a:srgbClr val="000000"/>
              </a:solidFill>
              <a:latin typeface="Arial"/>
            </a:endParaRPr>
          </a:p>
        </p:txBody>
      </p:sp>
      <p:sp>
        <p:nvSpPr>
          <p:cNvPr id="112"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funding year for purposes of CIPA is the first funding year starting with FY2001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pplied for and received funding for Internet Access, Internal Connections, or Basic Maintenance of Internal Connection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uccessfully filed a Form 486</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embers of a consortium, you filed a Form 479 with your consortium leader and your consortium leader reported your status by successfully filing a Form 48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4CC6-8FFF-470C-9A74-7531B340C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third funding years</a:t>
            </a:r>
            <a:endParaRPr b="0" lang="en-US" sz="4000" spc="-1" strike="noStrike">
              <a:solidFill>
                <a:srgbClr val="000000"/>
              </a:solidFill>
              <a:latin typeface="Arial"/>
            </a:endParaRPr>
          </a:p>
        </p:txBody>
      </p:sp>
      <p:sp>
        <p:nvSpPr>
          <p:cNvPr id="115"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econd funding year for purposes of CIPA is the year after your first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apply for discounts – or only for discounts on Telecommunications Services in the year following your first funding year – that year is still your second funding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third funding year for purposes of CIPA is the year after your secon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DAC1-B60E-474C-AB4D-D4E56E531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ministrative authority</a:t>
            </a:r>
            <a:endParaRPr b="0" lang="en-US" sz="4000" spc="-1" strike="noStrike">
              <a:solidFill>
                <a:srgbClr val="000000"/>
              </a:solidFill>
              <a:latin typeface="Arial"/>
            </a:endParaRPr>
          </a:p>
        </p:txBody>
      </p:sp>
      <p:sp>
        <p:nvSpPr>
          <p:cNvPr id="11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ministrative authority must make the certification of compliance with CIP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school, the administrative authority may be the relevant school, school board, local educational agency, or other authority with responsibility for administration of the schoo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ibrary, the administrative authority may be the relevant library, library board, or other authority with responsibility for administration of the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25F0-3DB8-4F0C-8FED-C52ABCC3C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86</a:t>
            </a:r>
            <a:endParaRPr b="0" lang="en-US" sz="4000" spc="-1" strike="noStrike">
              <a:solidFill>
                <a:srgbClr val="000000"/>
              </a:solidFill>
              <a:latin typeface="Arial"/>
            </a:endParaRPr>
          </a:p>
        </p:txBody>
      </p:sp>
      <p:sp>
        <p:nvSpPr>
          <p:cNvPr id="121"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illed Entity and the administrative authority are the same, the Billed Entity makes the CIPA certification on the Form 486, Item 11a, 11b, or 11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a) The recipient(s) of service have complied with the requirements of CIP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b) The recipient(s) of service are undertaking actions to comply with CIP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c) CIPA does not apply because the recipients of service are receiving discounts only for telecommunications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16A3-5556-446A-A492-442492E3A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 486</a:t>
            </a:r>
            <a:endParaRPr b="0" lang="en-US" sz="4000" spc="-1" strike="noStrike">
              <a:solidFill>
                <a:srgbClr val="000000"/>
              </a:solidFill>
              <a:latin typeface="Arial"/>
            </a:endParaRPr>
          </a:p>
        </p:txBody>
      </p:sp>
      <p:sp>
        <p:nvSpPr>
          <p:cNvPr id="124"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ed Entity and the administrative authority are not the same, the administrative authority makes the CIPA certification on the Form 479 and sends the Form 479 to the Billed Entity</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lled Entity then certifies on the Form 486 th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d) It has collected Forms 479 from all eligible consortium members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1e) Only telecommunications services have been approved for discounts on behalf of eligible consortium member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lled Entity also notes if any consortium members have requested a CIPA waiver (Items 11f and 11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8626-0015-4464-9D31-364786CDA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dlines</a:t>
            </a:r>
            <a:endParaRPr b="0" lang="en-US" sz="4000" spc="-1" strike="noStrike">
              <a:solidFill>
                <a:srgbClr val="000000"/>
              </a:solidFill>
              <a:latin typeface="Arial"/>
            </a:endParaRPr>
          </a:p>
        </p:txBody>
      </p:sp>
      <p:sp>
        <p:nvSpPr>
          <p:cNvPr id="127"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486 deadl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days after the date of the Funding Commitment Decision Letter or 120 days after the service start date reported on the Form 486, whichever is l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that fail to certify a Form 486 by the deadline will receive a Form 486 Urgent Reminder Letter giving them an additional 20 days to submit and certify Form 486</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ts of service must be compliant with CIPA before they can receive discounts on services other than telecommunications servic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CF49-3BDD-4ABB-A901-D04D0ECA2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dlines</a:t>
            </a:r>
            <a:endParaRPr b="0" lang="en-US" sz="4000" spc="-1" strike="noStrike">
              <a:solidFill>
                <a:srgbClr val="000000"/>
              </a:solidFill>
              <a:latin typeface="Arial"/>
            </a:endParaRPr>
          </a:p>
        </p:txBody>
      </p:sp>
      <p:sp>
        <p:nvSpPr>
          <p:cNvPr id="130" name="PlaceHolder 2"/>
          <p:cNvSpPr>
            <a:spLocks noGrp="1"/>
          </p:cNvSpPr>
          <p:nvPr>
            <p:ph/>
          </p:nvPr>
        </p:nvSpPr>
        <p:spPr>
          <a:xfrm>
            <a:off x="533520" y="1219320"/>
            <a:ext cx="8224560" cy="502920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479 deadlin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rtium members must submit Form 479 to their consortium leader in time for the consortium leader to timely file the Form 486</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your consortium leader when you should submit Form 479</a:t>
            </a:r>
            <a:endParaRPr b="0" lang="en-US" sz="24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though the Form 479 specifies consortium members, there are other situations when a recipient of service files a Form 479</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library’s budget is part of its town’s budget, and the city is the Billed Entity for the Form 471 and Form 4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DD04-CCEA-4447-A304-E51462288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inders</a:t>
            </a:r>
            <a:endParaRPr b="0" lang="en-US" sz="4000" spc="-1" strike="noStrike">
              <a:solidFill>
                <a:srgbClr val="000000"/>
              </a:solidFill>
              <a:latin typeface="Arial"/>
            </a:endParaRPr>
          </a:p>
        </p:txBody>
      </p:sp>
      <p:sp>
        <p:nvSpPr>
          <p:cNvPr id="133" name="PlaceHolder 2"/>
          <p:cNvSpPr>
            <a:spLocks noGrp="1"/>
          </p:cNvSpPr>
          <p:nvPr>
            <p:ph/>
          </p:nvPr>
        </p:nvSpPr>
        <p:spPr>
          <a:xfrm>
            <a:off x="533520" y="1371240"/>
            <a:ext cx="8224560" cy="480060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s must maintain documentation for five years after the last day to receive service</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CIPA applies for every funding year from FY2001 going forward, you must maintain proof of CIPA compliance on an ongoing basis</a:t>
            </a:r>
            <a:endParaRPr b="0" lang="en-US" sz="2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of public notice of public meeting or hear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of public meeting or hear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Internet Safety Polic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hat the technology protection measure was in place during the funding year (maintenance logs, filtering logs, proof of purchase or description of filter from service provider)</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chools: documentation of monitoring the online activities of minor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BCCB-5955-4489-9D0C-5DB924192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dates to CIPA</a:t>
            </a:r>
            <a:endParaRPr b="0" lang="en-US" sz="4000" spc="-1" strike="noStrike">
              <a:solidFill>
                <a:srgbClr val="000000"/>
              </a:solidFill>
              <a:latin typeface="Arial"/>
            </a:endParaRPr>
          </a:p>
        </p:txBody>
      </p:sp>
      <p:sp>
        <p:nvSpPr>
          <p:cNvPr id="136" name="PlaceHolder 2"/>
          <p:cNvSpPr>
            <a:spLocks noGrp="1"/>
          </p:cNvSpPr>
          <p:nvPr>
            <p:ph/>
          </p:nvPr>
        </p:nvSpPr>
        <p:spPr>
          <a:xfrm>
            <a:off x="533520" y="1334880"/>
            <a:ext cx="822456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ng Children in the 21</a:t>
            </a:r>
            <a:r>
              <a:rPr b="0" lang="en-US" sz="2600" spc="-1" strike="noStrike" baseline="30000">
                <a:solidFill>
                  <a:srgbClr val="000000"/>
                </a:solidFill>
                <a:latin typeface="Arial"/>
              </a:rPr>
              <a:t>st</a:t>
            </a:r>
            <a:r>
              <a:rPr b="0" lang="en-US" sz="2600" spc="-1" strike="noStrike">
                <a:solidFill>
                  <a:srgbClr val="000000"/>
                </a:solidFill>
                <a:latin typeface="Arial"/>
              </a:rPr>
              <a:t> Century Act</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C is working on a Notice of Proposed Rulemaking (NPRM) concerning the requirements in this ac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NPRM is issued, there will be a specific period when interested parties can submit comments and also reply to comments already submitte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comments and reply comments have been reviewed, the FCC will issue an ord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der will contain information about any new requirements (rule changes) for program participant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en, CIPA requirements under the E-rate program remain unchan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BE7D-020B-474F-83A3-74C5E4E15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E727-226A-4B2D-B34F-3044170AF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8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PA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afety Poli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protection mea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notice and public hearing or meeting</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econd, and third funding yea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uthority</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486 and Form 479</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dead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7003-90AA-425F-9F84-1A0A6A84E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IPA? </a:t>
            </a:r>
            <a:endParaRPr b="0" lang="en-US" sz="4000" spc="-1" strike="noStrike">
              <a:solidFill>
                <a:srgbClr val="000000"/>
              </a:solidFill>
              <a:latin typeface="Arial"/>
            </a:endParaRPr>
          </a:p>
        </p:txBody>
      </p:sp>
      <p:sp>
        <p:nvSpPr>
          <p:cNvPr id="91"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s Internet Protection Act was signed into law on December 21, 2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with FY2001, CIPA sets certain requirements for E-rate recipients of service receiving funds for Internet Access, Internal Connections, and Basic Maintenance of Internal Conn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A DOES NOT APPLY to Telecommunications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BB47-0592-48EA-A804-AEBA63E3A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 Safety Policy </a:t>
            </a:r>
            <a:endParaRPr b="0" lang="en-US" sz="4000" spc="-1" strike="noStrike">
              <a:solidFill>
                <a:srgbClr val="000000"/>
              </a:solidFill>
              <a:latin typeface="Arial"/>
            </a:endParaRPr>
          </a:p>
        </p:txBody>
      </p:sp>
      <p:sp>
        <p:nvSpPr>
          <p:cNvPr id="94"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afety Policy (ISP) must:</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certain policy issues (next slid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addressed at a public hearing or meeting for which reasonable notice is provided</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lude a technology protection measure</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s only) Include monitoring of online activities of minors</a:t>
            </a:r>
            <a:endParaRPr b="0" lang="en-US" sz="3000" spc="-1" strike="noStrike">
              <a:solidFill>
                <a:srgbClr val="000000"/>
              </a:solidFill>
              <a:latin typeface="Arial"/>
            </a:endParaRPr>
          </a:p>
          <a:p>
            <a:pPr marL="343080" indent="-3430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 sure to retain a copy of your ISP</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E30D-D885-4A89-8CB8-742431A3B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 Safety Policy </a:t>
            </a:r>
            <a:endParaRPr b="0" lang="en-US" sz="4000" spc="-1" strike="noStrike">
              <a:solidFill>
                <a:srgbClr val="000000"/>
              </a:solidFill>
              <a:latin typeface="Arial"/>
            </a:endParaRPr>
          </a:p>
        </p:txBody>
      </p:sp>
      <p:sp>
        <p:nvSpPr>
          <p:cNvPr id="97"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issues that must be addressed:</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by minors to inappropriate materi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ety/security of minors when using e-mail, chat rooms, other direct electronic communicat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uthorized access, including “hacking” and other unlawful activities by minors onlin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uthorized disclosure, use and dissemination of personal information regarding minor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designed to restrict minors’ access to materials harmful to min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7C19-DAB6-4277-A386-D1EB0CCA9D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 </a:t>
            </a:r>
            <a:endParaRPr b="0" lang="en-US" sz="4000" spc="-1" strike="noStrike">
              <a:solidFill>
                <a:srgbClr val="000000"/>
              </a:solidFill>
              <a:latin typeface="Arial"/>
            </a:endParaRPr>
          </a:p>
        </p:txBody>
      </p:sp>
      <p:sp>
        <p:nvSpPr>
          <p:cNvPr id="100" name="PlaceHolder 2"/>
          <p:cNvSpPr>
            <a:spLocks noGrp="1"/>
          </p:cNvSpPr>
          <p:nvPr>
            <p:ph/>
          </p:nvPr>
        </p:nvSpPr>
        <p:spPr>
          <a:xfrm>
            <a:off x="228600" y="1218960"/>
            <a:ext cx="8763120" cy="480060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protection measure (filter)</a:t>
            </a:r>
            <a:endParaRPr b="0" lang="en-US" sz="28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c technology that blocks or filters Internet access</a:t>
            </a: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protect against access by adults and minors to visual depictions that are obscene, child pornography, or harmful to minors</a:t>
            </a: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isabled for adults engaged in bona fide research or other lawful purposes</a:t>
            </a:r>
            <a:endParaRPr b="0" lang="en-US" sz="26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can be provided by a school or library, a district, a consortium, or a service provider</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proof that the filter was in place and 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08DE-AF11-40A0-BD97-122C687AE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 hearing or meeting </a:t>
            </a:r>
            <a:endParaRPr b="0" lang="en-US" sz="4000" spc="-1" strike="noStrike">
              <a:solidFill>
                <a:srgbClr val="000000"/>
              </a:solidFill>
              <a:latin typeface="Arial"/>
            </a:endParaRPr>
          </a:p>
        </p:txBody>
      </p:sp>
      <p:sp>
        <p:nvSpPr>
          <p:cNvPr id="103"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afety Policy must be addressed at a public meeting or hea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ivate schools, “public” notice means notice to appropriate constituent group</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public notice (newspaper ad, flyer, announcement in other publicatio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n documentation of hearing or meeting (board agenda, meeting minu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1560-BA4F-4A37-8A12-E0F893964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c hearing or meeting </a:t>
            </a:r>
            <a:endParaRPr b="0" lang="en-US" sz="4000" spc="-1" strike="noStrike">
              <a:solidFill>
                <a:srgbClr val="000000"/>
              </a:solidFill>
              <a:latin typeface="Arial"/>
            </a:endParaRPr>
          </a:p>
        </p:txBody>
      </p:sp>
      <p:sp>
        <p:nvSpPr>
          <p:cNvPr id="106"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have satisfied this requirement, you do not have to hold a new public meeting or hearing UNLESS:</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not adequately document your original public notice and public meeting or hear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Internet Safety Policy includes a provision for periodic approvals in a public meet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have made major changes in your Internet Safety Policy that require approval in a public meet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D834-DC2A-43EA-BAA4-6EF94E099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iance timeline</a:t>
            </a:r>
            <a:endParaRPr b="0" lang="en-US" sz="4000" spc="-1" strike="noStrike">
              <a:solidFill>
                <a:srgbClr val="000000"/>
              </a:solidFill>
              <a:latin typeface="Arial"/>
            </a:endParaRPr>
          </a:p>
        </p:txBody>
      </p:sp>
      <p:sp>
        <p:nvSpPr>
          <p:cNvPr id="109"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first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working toward compliance with CIP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secon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 unless state or local procurement rules or regulations or competitive bidding requirements prevent the making of the certific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third funding ye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be in compliance with CIP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John Noran</cp:lastModifiedBy>
  <dcterms:modified xsi:type="dcterms:W3CDTF">2009-09-17T20:18:04Z</dcterms:modified>
  <cp:revision>472</cp:revision>
  <dc:subject/>
  <dc:title>Slide 1</dc:title>
</cp:coreProperties>
</file>